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D50-3AF0-45BC-B837-1698C521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F5C-5452-4729-9C22-95AD1D28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943-DBFE-49C0-A426-043E450C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291-E080-4EBC-A07A-CA669ADC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F81D-ED03-4D0A-B026-34104103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1C8C-B34A-4234-9E0C-78F33387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154A-C8AA-43CC-9E79-EC5BB30E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37EE-42C8-4379-B9AF-018ADC6F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A1ED-C8C9-49B7-8EBF-1F64EB95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C42C-AA22-4371-BFF3-D3521345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2B81-F7DE-41DF-A237-49CFCB98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ED6-FE8B-4AB3-B330-EC55A931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409D-B32D-4CFE-92EE-63756B7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7372-ABE0-4F64-B069-33CA1AEB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7203-A1C7-4D78-B0D0-8A1739D2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51A5-5963-4257-B432-27C4A22B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E7BE-1D7C-438D-A0AE-0113D6E7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39E-7600-48B8-96FE-36DB106E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1E3-7BA2-4AE1-8474-4C6A4465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D5E-A779-4E85-8AC0-0B3B6CA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CD9-39BB-43F4-9660-D267813A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71B-D1C6-4076-B9AC-F60C22D3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350-7453-4BB4-B6C4-649D56D5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0E1-4BD2-4B34-83DB-226E15D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F9C6-CE82-4113-B5A4-7471BC740C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99D1-B82B-461E-A049-2FC0709FDB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enudd.com/myth/greek/images/pythagora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0"/>
            <a:ext cx="55818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484280"/>
            <a:ext cx="989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Comic Sans MS"/>
              </a:rPr>
              <a:t>T H E O R E M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Comic Sans MS"/>
              </a:rPr>
              <a:t>P Y T H A G O R A 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Mae rheol i'w chael sy'n cysylltu hyd tair ochr triongl ongl sgwâr. Enw'r rheol honno yw </a:t>
            </a:r>
            <a:r>
              <a:rPr b="1" lang="en-GB" sz="2700" spc="-1" strike="noStrike">
                <a:solidFill>
                  <a:srgbClr val="9900ff"/>
                </a:solidFill>
                <a:latin typeface="Comic Sans MS"/>
              </a:rPr>
              <a:t>T</a:t>
            </a:r>
            <a:r>
              <a:rPr b="1" lang="cy-GB" sz="2700" spc="-1" strike="noStrike">
                <a:solidFill>
                  <a:srgbClr val="9900ff"/>
                </a:solidFill>
                <a:latin typeface="Comic Sans MS"/>
              </a:rPr>
              <a:t>heorem Pythagoras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25909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438280"/>
            <a:ext cx="8229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Defnyddir Theorem Pythagoras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 ddarganfod hyd ochr coll mewn triongl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ongl 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sgwâr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066680" y="3733920"/>
            <a:ext cx="3124440" cy="1828800"/>
            <a:chOff x="1066680" y="3733920"/>
            <a:chExt cx="3124440" cy="1828800"/>
          </a:xfrm>
        </p:grpSpPr>
        <p:sp>
          <p:nvSpPr>
            <p:cNvPr id="266" name=""/>
            <p:cNvSpPr/>
            <p:nvPr/>
          </p:nvSpPr>
          <p:spPr>
            <a:xfrm>
              <a:off x="1066680" y="3733920"/>
              <a:ext cx="3124440" cy="182880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6680" y="5257800"/>
              <a:ext cx="457200" cy="3049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572000" y="3809880"/>
            <a:ext cx="3657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sydd gyferbyn 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â’r ongl sgwâr yw yr ochr hiraf yn y triongl. Enw’r ochr yma ydy </a:t>
            </a:r>
            <a:r>
              <a:rPr b="1" lang="cy-GB" sz="2700" spc="-1" strike="noStrike">
                <a:solidFill>
                  <a:srgbClr val="9900ff"/>
                </a:solidFill>
                <a:latin typeface="Comic Sans MS"/>
              </a:rPr>
              <a:t>Hypotenws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Hypote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0880" y="1981080"/>
            <a:ext cx="3047760" cy="2324880"/>
            <a:chOff x="380880" y="1981080"/>
            <a:chExt cx="3047760" cy="2324880"/>
          </a:xfrm>
        </p:grpSpPr>
        <p:grpSp>
          <p:nvGrpSpPr>
            <p:cNvPr id="272" name=""/>
            <p:cNvGrpSpPr/>
            <p:nvPr/>
          </p:nvGrpSpPr>
          <p:grpSpPr>
            <a:xfrm>
              <a:off x="1025640" y="1981080"/>
              <a:ext cx="2403000" cy="1703160"/>
              <a:chOff x="1025640" y="1981080"/>
              <a:chExt cx="2403000" cy="1703160"/>
            </a:xfrm>
          </p:grpSpPr>
          <p:sp>
            <p:nvSpPr>
              <p:cNvPr id="273" name=""/>
              <p:cNvSpPr/>
              <p:nvPr/>
            </p:nvSpPr>
            <p:spPr>
              <a:xfrm>
                <a:off x="1025640" y="1981080"/>
                <a:ext cx="2403000" cy="1703160"/>
              </a:xfrm>
              <a:prstGeom prst="rtTriangl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25640" y="3400200"/>
                <a:ext cx="351360" cy="28368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70400" y="2193840"/>
              <a:ext cx="175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2548440"/>
              <a:ext cx="703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7400" y="3755160"/>
              <a:ext cx="704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038480" y="1897200"/>
            <a:ext cx="4191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Mae Theorem Pythagoras yn dweu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962520" y="4267080"/>
            <a:ext cx="3886200" cy="1066680"/>
            <a:chOff x="3962520" y="4267080"/>
            <a:chExt cx="3886200" cy="1066680"/>
          </a:xfrm>
        </p:grpSpPr>
        <p:sp>
          <p:nvSpPr>
            <p:cNvPr id="280" name=""/>
            <p:cNvSpPr/>
            <p:nvPr/>
          </p:nvSpPr>
          <p:spPr>
            <a:xfrm>
              <a:off x="3962520" y="4267080"/>
              <a:ext cx="3886200" cy="1066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51520" y="4524120"/>
              <a:ext cx="35082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h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 = a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  +  b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990720"/>
            <a:ext cx="647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YR HYPOTEN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28600" y="1905120"/>
            <a:ext cx="3733560" cy="2288520"/>
            <a:chOff x="228600" y="1905120"/>
            <a:chExt cx="3733560" cy="2288520"/>
          </a:xfrm>
        </p:grpSpPr>
        <p:grpSp>
          <p:nvGrpSpPr>
            <p:cNvPr id="285" name=""/>
            <p:cNvGrpSpPr/>
            <p:nvPr/>
          </p:nvGrpSpPr>
          <p:grpSpPr>
            <a:xfrm>
              <a:off x="1295280" y="1905120"/>
              <a:ext cx="2666880" cy="1752480"/>
              <a:chOff x="1295280" y="1905120"/>
              <a:chExt cx="2666880" cy="1752480"/>
            </a:xfrm>
          </p:grpSpPr>
          <p:sp>
            <p:nvSpPr>
              <p:cNvPr id="286" name=""/>
              <p:cNvSpPr/>
              <p:nvPr/>
            </p:nvSpPr>
            <p:spPr>
              <a:xfrm>
                <a:off x="1295280" y="1905120"/>
                <a:ext cx="2666880" cy="1752480"/>
              </a:xfrm>
              <a:prstGeom prst="rtTriangle">
                <a:avLst/>
              </a:prstGeom>
              <a:solidFill>
                <a:srgbClr val="fddd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95280" y="3505320"/>
                <a:ext cx="152280" cy="152280"/>
              </a:xfrm>
              <a:prstGeom prst="rect">
                <a:avLst/>
              </a:prstGeom>
              <a:solidFill>
                <a:srgbClr val="fddd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057400" y="3733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4600" y="2286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648320" y="1905120"/>
            <a:ext cx="32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3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2514600"/>
            <a:ext cx="266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16 + 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27672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2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724280" y="4038480"/>
            <a:ext cx="1905120" cy="505440"/>
            <a:chOff x="4724280" y="4038480"/>
            <a:chExt cx="1905120" cy="505440"/>
          </a:xfrm>
        </p:grpSpPr>
        <p:sp>
          <p:nvSpPr>
            <p:cNvPr id="295" name=""/>
            <p:cNvSpPr/>
            <p:nvPr/>
          </p:nvSpPr>
          <p:spPr>
            <a:xfrm>
              <a:off x="4724280" y="40384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r>
                <a:rPr b="1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7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8640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724280" y="4724280"/>
            <a:ext cx="190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5486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fiwch mai yr hypotenws yw’r ochr hiraf bob tro, felly mae’r ateb yma yn gwneud synnw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/>
          <p:nvPr/>
        </p:nvSpPr>
        <p:spPr>
          <a:xfrm>
            <a:off x="179280" y="907920"/>
            <a:ext cx="619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24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6364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920" y="1557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rganfyddwch hyd yr hypotenws ar gyfer y trionglau canly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93880" y="2895480"/>
            <a:ext cx="1590120" cy="1612800"/>
            <a:chOff x="893880" y="2895480"/>
            <a:chExt cx="1590120" cy="1612800"/>
          </a:xfrm>
        </p:grpSpPr>
        <p:sp>
          <p:nvSpPr>
            <p:cNvPr id="305" name=""/>
            <p:cNvSpPr/>
            <p:nvPr/>
          </p:nvSpPr>
          <p:spPr>
            <a:xfrm>
              <a:off x="893880" y="2895480"/>
              <a:ext cx="1590120" cy="161280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3880" y="4201200"/>
              <a:ext cx="374040" cy="3070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771640" y="4878360"/>
            <a:ext cx="2180880" cy="1143000"/>
            <a:chOff x="2771640" y="4878360"/>
            <a:chExt cx="2180880" cy="1143000"/>
          </a:xfrm>
        </p:grpSpPr>
        <p:sp>
          <p:nvSpPr>
            <p:cNvPr id="308" name=""/>
            <p:cNvSpPr/>
            <p:nvPr/>
          </p:nvSpPr>
          <p:spPr>
            <a:xfrm flipH="1">
              <a:off x="2771640" y="4878360"/>
              <a:ext cx="218088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03680" y="5716440"/>
              <a:ext cx="34884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443640" y="2781360"/>
            <a:ext cx="1366560" cy="2630160"/>
            <a:chOff x="6443640" y="2781360"/>
            <a:chExt cx="1366560" cy="2630160"/>
          </a:xfrm>
        </p:grpSpPr>
        <p:sp>
          <p:nvSpPr>
            <p:cNvPr id="311" name=""/>
            <p:cNvSpPr/>
            <p:nvPr/>
          </p:nvSpPr>
          <p:spPr>
            <a:xfrm flipV="1">
              <a:off x="6443640" y="2781360"/>
              <a:ext cx="1366560" cy="263016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43640" y="2781360"/>
              <a:ext cx="321480" cy="36252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116000" y="465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429000"/>
            <a:ext cx="9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mm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636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19640" y="602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32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16436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96000" y="357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59640" y="24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981000"/>
            <a:ext cx="66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YR OCHR AR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295280" y="1905120"/>
            <a:ext cx="2666880" cy="1752480"/>
            <a:chOff x="1295280" y="1905120"/>
            <a:chExt cx="2666880" cy="1752480"/>
          </a:xfrm>
        </p:grpSpPr>
        <p:sp>
          <p:nvSpPr>
            <p:cNvPr id="326" name=""/>
            <p:cNvSpPr/>
            <p:nvPr/>
          </p:nvSpPr>
          <p:spPr>
            <a:xfrm>
              <a:off x="1295280" y="1905120"/>
              <a:ext cx="2666880" cy="1752480"/>
            </a:xfrm>
            <a:prstGeom prst="rtTriangle">
              <a:avLst/>
            </a:prstGeom>
            <a:solidFill>
              <a:srgbClr val="fddd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95280" y="3505320"/>
              <a:ext cx="152280" cy="152280"/>
            </a:xfrm>
            <a:prstGeom prst="rect">
              <a:avLst/>
            </a:prstGeom>
            <a:solidFill>
              <a:srgbClr val="fddd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057400" y="3733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286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844640"/>
            <a:ext cx="324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=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2421000"/>
            <a:ext cx="223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25 = 16 +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068640"/>
            <a:ext cx="252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25 – 16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56000" y="3645000"/>
            <a:ext cx="2592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9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4292640"/>
            <a:ext cx="208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9 =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43280" y="4941720"/>
            <a:ext cx="223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/>
          <p:nvPr/>
        </p:nvSpPr>
        <p:spPr>
          <a:xfrm>
            <a:off x="135720" y="836640"/>
            <a:ext cx="148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341360"/>
            <a:ext cx="86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Darganfyddwch yr hyd coll ar gyfer y trionglau canly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71640" y="2276640"/>
            <a:ext cx="1512360" cy="2231640"/>
            <a:chOff x="971640" y="2276640"/>
            <a:chExt cx="1512360" cy="2231640"/>
          </a:xfrm>
        </p:grpSpPr>
        <p:sp>
          <p:nvSpPr>
            <p:cNvPr id="341" name=""/>
            <p:cNvSpPr/>
            <p:nvPr/>
          </p:nvSpPr>
          <p:spPr>
            <a:xfrm>
              <a:off x="971640" y="2276640"/>
              <a:ext cx="1512360" cy="223164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71640" y="4083120"/>
              <a:ext cx="356040" cy="42516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771640" y="4878360"/>
            <a:ext cx="2180880" cy="1143000"/>
            <a:chOff x="2771640" y="4878360"/>
            <a:chExt cx="2180880" cy="1143000"/>
          </a:xfrm>
        </p:grpSpPr>
        <p:sp>
          <p:nvSpPr>
            <p:cNvPr id="344" name=""/>
            <p:cNvSpPr/>
            <p:nvPr/>
          </p:nvSpPr>
          <p:spPr>
            <a:xfrm flipH="1">
              <a:off x="2771640" y="4878360"/>
              <a:ext cx="218088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03680" y="5716440"/>
              <a:ext cx="34884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443640" y="2781360"/>
            <a:ext cx="1366560" cy="2630160"/>
            <a:chOff x="6443640" y="2781360"/>
            <a:chExt cx="1366560" cy="2630160"/>
          </a:xfrm>
        </p:grpSpPr>
        <p:sp>
          <p:nvSpPr>
            <p:cNvPr id="347" name=""/>
            <p:cNvSpPr/>
            <p:nvPr/>
          </p:nvSpPr>
          <p:spPr>
            <a:xfrm flipV="1">
              <a:off x="6443640" y="2781360"/>
              <a:ext cx="1366560" cy="263016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43640" y="2781360"/>
              <a:ext cx="321480" cy="36252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042920" y="4508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7640" y="3284640"/>
            <a:ext cx="115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2997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32360" y="5229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2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43280" y="50133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.7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80000" y="59500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88000" y="2349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08720" y="386064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8.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96000" y="3500280"/>
            <a:ext cx="5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9079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OCHRAU TRIONGL ISOSGE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50920" y="2276640"/>
            <a:ext cx="3313080" cy="2665800"/>
            <a:chOff x="250920" y="2276640"/>
            <a:chExt cx="3313080" cy="2665800"/>
          </a:xfrm>
        </p:grpSpPr>
        <p:sp>
          <p:nvSpPr>
            <p:cNvPr id="361" name=""/>
            <p:cNvSpPr/>
            <p:nvPr/>
          </p:nvSpPr>
          <p:spPr>
            <a:xfrm>
              <a:off x="250920" y="2276640"/>
              <a:ext cx="2017440" cy="223200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6920" y="4437000"/>
              <a:ext cx="1297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40000" y="2276640"/>
              <a:ext cx="0" cy="2232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11280" y="292428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427640" y="1989000"/>
            <a:ext cx="367344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fiwch: Mae Theorem Pythagoras dim ond yn gweithio ar gyfer trionglau ongl sgw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âr, felly mae’n rhaid rhannu’r triongl yn ddau er mwyn cael triongl ongl </a:t>
            </a:r>
            <a:r>
              <a:rPr b="0" lang="en-GB" sz="2700" spc="-1" strike="noStrike">
                <a:solidFill>
                  <a:srgbClr val="ff0000"/>
                </a:solidFill>
                <a:latin typeface="Comic Sans MS"/>
              </a:rPr>
              <a:t>sgw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â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2276640"/>
            <a:ext cx="1009440" cy="2232000"/>
          </a:xfrm>
          <a:prstGeom prst="rtTriangle">
            <a:avLst/>
          </a:prstGeom>
          <a:solidFill>
            <a:srgbClr val="0ea4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6920" y="2276640"/>
            <a:ext cx="1009800" cy="2232000"/>
          </a:xfrm>
          <a:prstGeom prst="rtTriangle">
            <a:avLst/>
          </a:prstGeom>
          <a:solidFill>
            <a:srgbClr val="0ea4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588000" y="2349360"/>
            <a:ext cx="0" cy="2159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24360" y="306864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000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036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4764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92360" y="3213000"/>
            <a:ext cx="259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= 6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19640" y="3716280"/>
            <a:ext cx="273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36 + 1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19640" y="4221000"/>
            <a:ext cx="295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5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4653000"/>
            <a:ext cx="30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√5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32000" y="5157720"/>
            <a:ext cx="345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7.2cm (1.ll.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2025600">
            <a:off x="3708000" y="620640"/>
            <a:ext cx="3025800" cy="2808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2362320"/>
            <a:ext cx="1656000" cy="165564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4017960"/>
            <a:ext cx="2592360" cy="2592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2362320"/>
            <a:ext cx="2592360" cy="1655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4200" y="400536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520360" y="296064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53000">
            <a:off x="4210920" y="270828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3645000"/>
            <a:ext cx="360360" cy="358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92360" y="3789360"/>
            <a:ext cx="23036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403280" y="3428640"/>
            <a:ext cx="57636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1341360"/>
            <a:ext cx="266400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437000"/>
            <a:ext cx="345780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hirra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w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558972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ob tro cyferbyn a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4680" y="3029040"/>
            <a:ext cx="2135160" cy="1430280"/>
          </a:xfrm>
          <a:custGeom>
            <a:avLst/>
            <a:gdLst/>
            <a:ahLst/>
            <a:rect l="l" t="t" r="r" b="b"/>
            <a:pathLst>
              <a:path w="1345" h="901">
                <a:moveTo>
                  <a:pt x="1345" y="901"/>
                </a:moveTo>
                <a:cubicBezTo>
                  <a:pt x="1321" y="847"/>
                  <a:pt x="1295" y="793"/>
                  <a:pt x="1282" y="735"/>
                </a:cubicBezTo>
                <a:cubicBezTo>
                  <a:pt x="1271" y="684"/>
                  <a:pt x="1265" y="647"/>
                  <a:pt x="1242" y="601"/>
                </a:cubicBezTo>
                <a:cubicBezTo>
                  <a:pt x="1216" y="548"/>
                  <a:pt x="1191" y="470"/>
                  <a:pt x="1140" y="435"/>
                </a:cubicBezTo>
                <a:cubicBezTo>
                  <a:pt x="1112" y="306"/>
                  <a:pt x="1114" y="275"/>
                  <a:pt x="998" y="207"/>
                </a:cubicBezTo>
                <a:cubicBezTo>
                  <a:pt x="900" y="60"/>
                  <a:pt x="684" y="49"/>
                  <a:pt x="524" y="41"/>
                </a:cubicBezTo>
                <a:cubicBezTo>
                  <a:pt x="402" y="0"/>
                  <a:pt x="494" y="24"/>
                  <a:pt x="240" y="33"/>
                </a:cubicBezTo>
                <a:cubicBezTo>
                  <a:pt x="192" y="50"/>
                  <a:pt x="223" y="35"/>
                  <a:pt x="161" y="96"/>
                </a:cubicBezTo>
                <a:cubicBezTo>
                  <a:pt x="148" y="108"/>
                  <a:pt x="129" y="110"/>
                  <a:pt x="114" y="120"/>
                </a:cubicBezTo>
                <a:cubicBezTo>
                  <a:pt x="86" y="162"/>
                  <a:pt x="77" y="186"/>
                  <a:pt x="27" y="199"/>
                </a:cubicBezTo>
                <a:cubicBezTo>
                  <a:pt x="0" y="218"/>
                  <a:pt x="4" y="206"/>
                  <a:pt x="4" y="23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68709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elly        =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332800" y="1268280"/>
            <a:ext cx="459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(      ) = (      ) + 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55480" y="206064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987640" y="2708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3141720"/>
            <a:ext cx="2952720" cy="11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Yr Hypotenw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(yr ochr hirr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5280" y="3141720"/>
            <a:ext cx="2952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Y ddwy ochr ar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076360" y="2708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4724280"/>
            <a:ext cx="7201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Theorem Pythagor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7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4797360"/>
            <a:ext cx="2016360" cy="115272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508644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0920" y="5878440"/>
            <a:ext cx="86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77080" y="494172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 gyfer y trionglau canlynol, ysgrifennwch Theorem Pythagoras ar eu cy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33520" y="2895480"/>
            <a:ext cx="1295280" cy="1600200"/>
            <a:chOff x="533520" y="2895480"/>
            <a:chExt cx="1295280" cy="1600200"/>
          </a:xfrm>
        </p:grpSpPr>
        <p:sp>
          <p:nvSpPr>
            <p:cNvPr id="183" name=""/>
            <p:cNvSpPr/>
            <p:nvPr/>
          </p:nvSpPr>
          <p:spPr>
            <a:xfrm>
              <a:off x="533520" y="2895480"/>
              <a:ext cx="1295280" cy="160020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520" y="4190760"/>
              <a:ext cx="304920" cy="30492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047760" y="3048120"/>
            <a:ext cx="1904760" cy="1143000"/>
            <a:chOff x="3047760" y="3048120"/>
            <a:chExt cx="1904760" cy="1143000"/>
          </a:xfrm>
        </p:grpSpPr>
        <p:sp>
          <p:nvSpPr>
            <p:cNvPr id="186" name=""/>
            <p:cNvSpPr/>
            <p:nvPr/>
          </p:nvSpPr>
          <p:spPr>
            <a:xfrm flipH="1">
              <a:off x="3047400" y="3048120"/>
              <a:ext cx="190476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7960" y="3886200"/>
              <a:ext cx="30456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934320" y="2743200"/>
            <a:ext cx="1295280" cy="2209680"/>
            <a:chOff x="6934320" y="2743200"/>
            <a:chExt cx="1295280" cy="2209680"/>
          </a:xfrm>
        </p:grpSpPr>
        <p:sp>
          <p:nvSpPr>
            <p:cNvPr id="189" name=""/>
            <p:cNvSpPr/>
            <p:nvPr/>
          </p:nvSpPr>
          <p:spPr>
            <a:xfrm flipV="1">
              <a:off x="6934320" y="2743200"/>
              <a:ext cx="1295280" cy="220968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4320" y="2743200"/>
              <a:ext cx="304920" cy="30456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9907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952880"/>
            <a:ext cx="213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f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e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4952880"/>
            <a:ext cx="236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b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4983120"/>
            <a:ext cx="213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4920" y="117000"/>
            <a:ext cx="1944720" cy="2521080"/>
            <a:chOff x="34920" y="117000"/>
            <a:chExt cx="1944720" cy="2521080"/>
          </a:xfrm>
        </p:grpSpPr>
        <p:sp>
          <p:nvSpPr>
            <p:cNvPr id="204" name=""/>
            <p:cNvSpPr/>
            <p:nvPr/>
          </p:nvSpPr>
          <p:spPr>
            <a:xfrm rot="16200000">
              <a:off x="-252360" y="40428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48000" y="229860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55640" y="2709720"/>
            <a:ext cx="10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1270080"/>
            <a:ext cx="10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8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909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34920" y="117000"/>
            <a:ext cx="1944720" cy="2521080"/>
            <a:chOff x="34920" y="117000"/>
            <a:chExt cx="1944720" cy="2521080"/>
          </a:xfrm>
        </p:grpSpPr>
        <p:sp>
          <p:nvSpPr>
            <p:cNvPr id="216" name=""/>
            <p:cNvSpPr/>
            <p:nvPr/>
          </p:nvSpPr>
          <p:spPr>
            <a:xfrm rot="16200000">
              <a:off x="-252360" y="40428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48000" y="229860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55640" y="270972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1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79640" y="127008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17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909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-216360" y="244800"/>
            <a:ext cx="2953080" cy="2553840"/>
            <a:chOff x="-216360" y="244800"/>
            <a:chExt cx="2953080" cy="2553840"/>
          </a:xfrm>
        </p:grpSpPr>
        <p:sp>
          <p:nvSpPr>
            <p:cNvPr id="228" name=""/>
            <p:cNvSpPr/>
            <p:nvPr/>
          </p:nvSpPr>
          <p:spPr>
            <a:xfrm rot="11742000">
              <a:off x="0" y="54900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7142000">
              <a:off x="2298960" y="91836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692360" y="155736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98100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8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33336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rot="2025600">
            <a:off x="3708000" y="620640"/>
            <a:ext cx="3025800" cy="2808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2362320"/>
            <a:ext cx="1656000" cy="165564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3640" y="4017960"/>
            <a:ext cx="2592360" cy="2592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2362320"/>
            <a:ext cx="2592360" cy="1655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3645000"/>
            <a:ext cx="360360" cy="358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9810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43862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294624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292360" y="3789360"/>
            <a:ext cx="23036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403280" y="3428640"/>
            <a:ext cx="57636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4360" y="1341360"/>
            <a:ext cx="266400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4437000"/>
            <a:ext cx="34578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hirra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w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0360" y="558972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ob tro cyferbyn a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8380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 Black"/>
              </a:rPr>
              <a:t>YR ATE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676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38862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Darganfod hyd un ochr triongl ongl sgwar"/>
          <p:cNvPicPr/>
          <p:nvPr/>
        </p:nvPicPr>
        <p:blipFill>
          <a:blip r:embed="rId2"/>
          <a:stretch/>
        </p:blipFill>
        <p:spPr>
          <a:xfrm>
            <a:off x="3048120" y="4648320"/>
            <a:ext cx="2971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1371600" y="2362320"/>
            <a:ext cx="6553080" cy="1747440"/>
            <a:chOff x="1371600" y="2362320"/>
            <a:chExt cx="6553080" cy="1747440"/>
          </a:xfrm>
        </p:grpSpPr>
        <p:sp>
          <p:nvSpPr>
            <p:cNvPr id="258" name=""/>
            <p:cNvSpPr/>
            <p:nvPr/>
          </p:nvSpPr>
          <p:spPr>
            <a:xfrm>
              <a:off x="1447920" y="2438280"/>
              <a:ext cx="6476760" cy="1295640"/>
            </a:xfrm>
            <a:prstGeom prst="flowChartAlternate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6520" y="2514600"/>
              <a:ext cx="60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2362320"/>
              <a:ext cx="655308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Cyfanswm arwynebedd y ddau sgwar lleiaf     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yw arwynebedd y sgwar mwyaf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MAE HYN YN WIR BOB TRO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6:42:01Z</dcterms:created>
  <dc:creator>Goss</dc:creator>
  <dc:description/>
  <dc:language>en-US</dc:language>
  <cp:lastModifiedBy>Betsan Wyn Thomas</cp:lastModifiedBy>
  <dcterms:modified xsi:type="dcterms:W3CDTF">2008-01-27T20:43:50Z</dcterms:modified>
  <cp:revision>57</cp:revision>
  <dc:subject/>
  <dc:title>Rhifau Negatif</dc:title>
</cp:coreProperties>
</file>